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DDA-9CC3-4B68-A460-5B8AF65B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E1C-5E2D-471D-BE9E-DDA94DB1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98A09-0C9E-4C48-96ED-BB22FCAC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19E19-736D-437E-91CA-E2D81EA0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5B4CE-002E-4DCD-B199-B89A79E4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60475-4539-4135-8ACC-B3AC4144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AC385-58C8-4FA6-B9CC-7FBE0F36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B07CE-792D-4DA1-8048-1773A803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28976-11C2-4CCD-B7A9-A77E1794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A0420-6B32-4C71-AECB-C6B7AE60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3B397-4EC1-4192-BF63-B052DE2B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776ED-290A-46FA-A293-461ADB54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04C-EE3C-4739-80B2-DECB84AD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C637B-0FB3-48D5-AF84-536CAFD4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79CC1-349E-4A3A-A061-65EC3286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FA885-A62E-4F6C-BAA9-85824A72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E4389-3340-4591-9C46-715E17A9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56BDA-53BD-49E5-A591-97AE5AC3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65690-0F40-49C9-8F46-F2D403FF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19454-6BFD-4E7B-AC98-E9F1D061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EAC71-3499-4206-8976-2E7433B4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F9242-9EA4-4265-A1BD-50DDD5A1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3A6F2-D1B8-4651-B45F-01FAEF96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1FB-0298-46BB-9B16-95095CA2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FDA39-8598-4B15-9FA7-DF78CADB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9E2B1-E975-49C4-9619-FE3F7BBC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F80D2-E954-4B5E-8313-FCEB3BEC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58C7B-4F75-4EE0-BB6C-64D73B85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95F16-D1A9-4D7A-AE6B-75899A89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84D76-60D5-4F01-9224-364877AC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949F4-9970-467A-ACFD-E7B21A64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C89DD-183E-47B1-B6F4-31E09EB4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FF923-F713-475F-A6BC-A748A00C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8C8BD-8AB4-4DC1-B20C-243DC690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6BAB-20E4-47EF-B798-5BA6E888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DF49B-4590-4211-B1FF-1A216D33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199DD-98E0-48BE-9725-3BDB3114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4C6C5-3ECB-4570-BE65-16E6BE05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01E29-8667-47A1-B5A9-8162F4B0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EC17B-B629-4E1A-87DD-F753D238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D418A-AB57-4917-9C51-A287D70D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B334D-A418-441E-B124-3F623943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F2BCF-E819-489F-B9BE-76F6CDA1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21BF8-8B72-41C1-A2F7-0BDD3036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2E507-9ACA-4690-88BC-BD3BC757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7F7B-4059-4E5B-8FD1-15C7B028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818D5-A7E5-4FB7-97B4-90D7F32C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33D90-3358-4653-926C-96D5CFD6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6C5D1-7179-4984-AD90-0983DCEF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E609C-0821-4401-8E51-B05B6BE9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D95C0-AAAE-4943-B34C-DA759BFA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636FE0-DEE4-447F-8151-42FBBA2A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8E5F9-5C0D-44EE-86DB-A139DBE9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DDBC7-CA89-4C2C-8097-0D75D7A9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A48C6-C78F-4707-BC12-5718DCEE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F73AD1-550F-43ED-B4F6-5D9B066B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CA8F-17E0-482B-A6B0-F2E31FBC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AF7C0F-9BD3-4314-B58E-F1A80CDE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D19CA-561E-445F-8513-A097369B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C71D1-A8D8-44EE-9701-AA00603D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7AFBB7-A2D5-45E2-A631-2F7F516B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BB8A0-7D7F-4E27-B6D5-981E26CB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D3DB64-5536-49D9-99DA-8B299DD3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F25908-B13E-4B17-A75D-A4C539E6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AC95C3-5C6A-4B79-96E5-E422E9D6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801F3E-CF5B-406D-B22D-0083BA3A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4B426B-E20F-4C8D-8A3E-15FB5ADE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FE4E-FA2E-4AA8-B761-A6F4F403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7BEED7-3886-40EC-8E81-B51A3004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13AE3A-98E5-4B46-BC55-69EC2D8B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19F4D8-F643-471C-9810-DA0D9C45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1E10DA-0CE6-4A35-9353-D0493790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CE6109-E0A3-4749-9FE3-0EB12733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3D6969-C57C-48C2-BFA9-DEBC377E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0DD0D8-0BA1-49F8-ABE4-53CEFB30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7A261E-F0A0-404F-835A-C615EFD3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6EC4D0-D700-4026-870B-F6BF3EBB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C44908-63E1-47F6-82F9-D349D982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94C8-B818-4350-9D20-F9DD7133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BB8DDE-0AAC-43B3-935C-FF9CE337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8CD2FF-822D-456C-A91C-6C477C21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BDB892-8961-4596-A0FF-A349F1A8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333CFA-EDDC-494F-9202-132DCFCA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78ACBD-8059-46F5-9CB4-121BCC41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DA7C8D-4DEE-40DD-8672-BD053E0C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D31FD3-61DC-4C87-B088-BCDAB9EE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99B4FD-1EEF-4435-B1CC-EF72F9D6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002A8D-89FE-4791-9606-77095CE4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420AC4-3EAF-41BE-9B9F-A313E940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1156-E608-444B-B3D7-D70B38FE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4F21F3-7CC5-4682-A732-4501CC227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0454EA-D472-457A-88AE-9DBF8AFF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EA3958-16CD-4EFD-8BD1-62881376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0C3310-B97E-43D9-B4CB-0168E5A5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418D16-5381-4F87-9CF2-17DF3360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004646-FE4A-4FA9-858C-5D5D799E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BE83B3-32A2-404B-AE6A-F1AEA9DB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F45E04-15CF-4A56-806E-FEE95AE8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A7CE75-5CDC-43C6-9B98-61712404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46A157-6E0C-41E5-876F-4C323F89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7474-E09E-4AFB-8C7C-4DE4D5F1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031453-970A-4551-8899-7A64DD3A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E2D73B-9141-40AA-BC20-14EB8A94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BB096D-8043-4244-BAE8-21712368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699B23-F475-4630-993F-92D9A3F5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CF7A56-16FD-4DD2-93CD-F628E622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35046E-7B43-4E15-8EAE-B7E3A8A3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6E48D8-FF11-4D1D-AFDB-A7A95F68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45FA44-E065-42B8-A7EF-B0B0C214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99CF7A-D5CE-4178-BD6C-E516C993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FADA00-15E2-4225-993B-B68CA7A6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387-0DBA-48CE-80C5-B5973102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8778-C2A9-4424-A213-6FBFF5EE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B0095E-66D1-4517-A9B1-77DECB39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5874B8-3F9B-43D5-9FDC-242E47A2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1F965F-D4A9-4C93-97ED-F724D65C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B0C11B-9076-47E4-A6F3-1F88FCC8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E1D444-8F42-4D05-87C3-2A6AFFC8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0EE0F2-6C3B-4EFB-ABBC-FC5F982A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926821-5159-44F9-A52D-783FF87F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0E07C9-2C5D-4EF2-B6D5-470A616A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C1312E-904A-4C80-95CB-BC30C935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69DDAA-4918-4B6F-9281-BBA799CD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B894-0A46-45EC-BA87-4E58AF82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CA7423-3BD5-42DD-91A4-1B56E066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AFC9C5-79AA-4A48-A2ED-55BBD005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471D66-3FEC-4A41-BF41-4690C79F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7488B1-DF2A-439E-BAEE-9FBBBA6A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EF1841-1E66-4AB7-A3EB-2A76F986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8A1295-A52C-40D6-9D09-D8C852B3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F23300-A29B-4E4F-B4B2-B5F0FB46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635670-E3CA-4F6D-880F-6C9F91A9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21A1EB-8F8E-47DE-A62E-7087B9E7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09E657-79A6-4DFA-A54F-8773DADF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FA9B-AA8F-4F8A-9163-BA80EAE8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254C61-B3BE-4BBC-861B-DB8FFC61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70B534-BEDB-4C3D-9A62-5D4E98AD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ECBCAF-2C5A-41DE-A148-64625327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7DD9C6-6676-422B-8C53-DE89BBA8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B4A037-9AB7-43C5-8FA3-81285FC7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EFB024-DC1C-4F42-B8EE-3B510351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6999E7-D126-4EA0-B8BF-A43D1A10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A49A99-8A98-4B0D-BBDA-348BB8A7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865A2F-37A6-4A00-8E3F-281FF1E0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9F3027-93DD-4D9C-83F0-BDCAFF8D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0CB2-F652-4434-80EE-A08D4B35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FAAD15-6411-4ED8-B234-45A2E97E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F1B9FF-7853-4DF4-A033-61E9A018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E91624-5462-43AA-A286-4BB6A83E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52D171-256B-422C-8800-BC6C1B6C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254DE6-8401-4CD2-9597-E53ECDF9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5BEA6D-0540-4B15-A4CA-13EB4300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FAB0A2-0312-44A5-A50B-1DF57DA4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7A81EE-D0D3-43D6-A636-7DDF4B5A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74F45A-AF17-4C58-ABC5-AA038A08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AA202E-AB24-45E1-9257-F6BEDACF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2610-826E-42A4-99B0-AD4A33A5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840A89-1098-4E3B-BEA8-F1CEECD5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4C0B04-3E00-414C-857A-AAC01E2D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680871-5888-4F60-A28E-514F7C11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B74E68-57CD-443F-9241-84F3986E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AA653D-E597-4DFC-BEC4-BFA950E3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FD5E76-CAAF-471D-9DE9-41B47F4C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A076BF-2CAA-4DE4-8D5A-CA3C6DD6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31F2FF-34F3-4590-AFAB-ED36BD09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F1C916-4B5E-4548-9FEF-B794754C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7F2F24-1ABE-4F5B-9F1A-E76F079E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47FF8-904F-40F9-87B2-C416A7BF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F82549-C5E2-4417-836E-3984C3D2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7783F2-5C81-4A66-9AF0-B0918C4B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D4259C-2D4F-47BC-A31E-A8F2F99C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855148-AE77-4EA7-81C6-6D076ACD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7F09B9-FADE-4B1D-9C95-223023F7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28B31A-06DA-41B3-AE8E-A1DD7CA9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0D8AE0-FE05-4ACC-AD29-2B627A3F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FEA238-17B6-43BF-8EAE-C80BA70C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45DE6D-9ECE-4594-969E-05F8D944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5E8F14-64B3-4482-9965-4882E8D5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223CB-B9A2-45B1-A644-BCBFBA40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618B35-9009-4EE9-B7E4-BEB7AC0C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E429B5-4626-40EB-A0FA-8AEDEAAB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F3E8F0-55B7-43A8-B54D-B7DFB57C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D742E9-CC38-46BC-AFCC-9C85980E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DC2717-3807-42BD-AE52-A09410713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B8FBB9-B881-4614-BDFF-DA00FEAA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0C1E63-65CA-4E0F-AB07-FC689961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69E730-29D9-4E02-AE3E-D18396F7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7ADCE2-4383-45A7-B9F6-D2EDEB25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A63560-AF68-4E24-AF81-6BB41264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C65F6-B04D-4C23-AA14-0D21F29C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874B06-5B6D-4EF9-B900-1E182ED0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0C7502-59A5-4932-AC53-1F21C9EF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B82F27-1520-4797-8E96-8E27C058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1ED066-91F5-4D9F-B09E-15C525D2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20D9C2-CE01-4707-8637-980EA9C5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DA5458-79B7-45FD-896A-2FC85CFF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9B7847-09AD-4CDE-B56B-D5CB852C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1536A-0630-4BC0-8474-B880445F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A8A06-268A-4BF8-B30D-36C93409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0F9-50AD-4147-B6B7-4FAAD4AE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6C3F3-0935-446E-9FBA-FD3FB5AB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8EFE4-E614-4358-BB38-E573D594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406CD-4AB0-4585-9C9A-796793F7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1B0F5-8565-4712-A4FF-A0E861FE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8057C-986E-4209-909D-D3C0DCDF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B410D-6E33-4F77-9FA4-BAB55BE9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70106-210E-46F5-B129-8946A149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6F480-A8F7-4EB1-AE5A-6B849822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C43B2-DE2A-48C4-B336-77281013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8368B-17CB-4A9A-9791-AE14FB26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1373-240F-4894-AC64-3BC17DC0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83326-E5EA-4768-953C-0525201C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3E404-1777-4F2E-8008-E8BCEBF8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471EE-E52C-466B-8F29-96EE9F5E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34192-03E1-47B6-85A6-3A43A04E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300EA-A498-4C80-88EF-52C493C7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61BCF-4C6D-4F53-BD98-E95A8F32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897FF-48C6-44CE-9DC8-51EE4328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C70BE-5C68-4AFC-8CAF-233B76C3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BFA6C-4932-4498-B9A0-5A835E20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E69AE-B814-472B-B7CC-275CB42F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EF92-7287-43F7-BA1E-A6C5DF3A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355B9-47A9-4FDD-9F60-FF76CC99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349C2-1844-4350-874D-5FCF0452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C12C2-ACF3-404E-A1E9-1A9A94D9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340B5-E666-4B55-98E6-E274B68A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43036-BB7B-4862-884E-76FFDFD2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7396A-CB8B-48FD-82A0-C9A23397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2A5BB-897B-43A3-81B1-5DA4582F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E549D-483B-44FB-A963-03086C1C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CFE6E-226C-46B7-B662-034FE7CD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C76C6-1669-4BC7-AF85-89CA3994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30ED-7D2D-4B13-AC80-F1BA1433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BA68C-4D4B-4400-9EA1-4965F891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98142-5F3A-4E34-9EFF-EE36C198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386DD-A45A-4A3A-801C-B4EC4152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82760-818B-4FDC-8466-80D43835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4C8CA-6AC7-4BBF-BA3C-2E389838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580D5-3BC8-40AA-8022-AC65D495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3E6B8-1957-484C-92F5-68507D75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FE7EC-6F7F-48A0-8ED0-A4D6A9DE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04229-DC25-49BF-A066-A87AD7C7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1C49B-3CA3-41B7-A7E2-B791513F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35DE-925D-4B9B-AE60-E969390E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CBD61-5058-4867-A008-7A57EA7C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50726-7289-47FC-A957-924B92E1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9DAD8-075D-4732-8F57-0A5DD8C4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FC646-7A63-48F1-8E91-6D148C66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0665F-7111-49CC-B7B3-DE70228B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6DE88-F9A5-4CB8-A513-2391C35B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53E22-7F52-43BC-BA34-B8D3DD8F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5843B-004A-467E-979D-BB70581A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4BA03-15D8-4321-A347-F8C21A0D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315F7-64D8-427D-8C18-DF18A33B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5F29-8CDB-4607-A346-19F2A1BD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20059-FA9A-490A-84E2-2CE43E10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7072C-7A73-4A6B-8952-EF4B60B8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2607C-4BDC-4ED1-8B79-0065C160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798EA-3CB5-4133-B387-17DAFF0B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C57D6-E272-4485-ADC0-16691237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1F8B2-FF52-4E11-A3FE-C99FDC0D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EB0E9-E86A-4718-B341-F9C92AA1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DB2B4-280C-4DC5-B276-AA05B7A6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2AF57-2CFA-47F3-B94D-3A3E558E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C356C-BA73-4771-8D3B-20D4ACE1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CF5A-3AEA-4878-B71E-79FF4BB2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9AA70-702D-4269-8B38-0FE6D3A7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93243-7E07-4D60-B900-3E042552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8B4CE-49EA-4D76-B04C-3ECE36A0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85BCA-80EC-4442-8CA1-1A60F1B2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6D7C5-E1BC-421B-BF5F-70CA1CD0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2979E-D805-486C-908C-DED2F2D1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EA9E3-49A3-44A9-A66C-E80315BF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AAB7A-F242-44AD-B2EA-F368E9C3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9F7E8-8CD7-4992-B0C6-5B1A2F06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45C67-6199-47D2-A3F9-640A76CD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B9ED-2E43-46D9-B207-9B15B450CC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9519-4AF5-4B9E-8B3F-8DBE9FBF34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9EA2-F0A5-41D6-9D7B-2E5820DDBB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72D3-9865-4989-80AA-A9CAE2739D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0F2B-F157-4401-B687-25D1730CE3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3B95-5007-4A4A-985F-B4CB6BA8FF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F6B4-257F-4945-B0E5-94A8855587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89D2-B269-4707-8B66-2B17D510A6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2854-07CC-4FC9-9E4E-EC34403456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938A-71F3-48A1-8D6D-1CD46E55DA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B9D5-F6BA-45C0-BBBD-6E3BF121DE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1911-8CF6-4892-B962-F25455E5D1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66A0-1D23-4D4E-9ED0-A752F1867E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1987-CFB8-4FED-9F11-A176DC9C04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3E72-143A-4657-A154-7FBA7BFF51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90AE-2110-4BF6-84DE-56FAC5E55F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E206-EC4C-4F02-A335-523649DC94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88E1-D3B9-4EF8-8EE1-A2E2F50F9A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D0B1-89BF-4C29-9254-CB0CFB3C00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8E1D-D122-4487-8BB9-EB9576FBDC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8317-D819-495F-88E3-7708B3032B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C736-7F14-4927-9454-58A33F409A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1B73-68C4-463B-883C-9E6E0CAF85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9276-E668-4562-A2A4-E92F0E923D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7844-B02F-4C62-A1E6-294BAF2558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39AA-BD3E-4F13-AAD8-446AAA6358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867E-BBD0-42C5-A8BA-280F904F9A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FB87-87B8-43EB-B313-5CEB974915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274C-01BE-467C-AFF7-9575B84869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3049-07A9-40A1-BB88-D25E238AF3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F7F7-5D2F-4BE2-AA26-326EA98C4E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35C9-7119-4603-BC09-3FE2570F3D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C1B0-2CCF-4548-A908-B2329C8D15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132B-8F44-40CD-ABFA-E1F1C920EBE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4DE1-9AB0-44F8-B3F1-B2EE5275CF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6F8D-8CBD-468B-89E2-CDAFFA548B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20EE-8C6F-4E7A-BCE3-73989638DA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1524-91C8-4339-AAC3-6CAA62E124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4A09-0227-4276-9D92-C27443E403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8231-D95A-42C0-B20D-510D4308AF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89E9-ED19-4C36-AA57-338508D29E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D4AB-7FBD-45AD-A822-3F1FFEFDF2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417600" y="3006720"/>
            <a:ext cx="830880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571680" y="765000"/>
            <a:ext cx="8001000" cy="58201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042920" y="2637000"/>
            <a:ext cx="309744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5508720" y="2637000"/>
            <a:ext cx="309708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1116000" y="5129280"/>
            <a:ext cx="30970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1116000" y="6021360"/>
            <a:ext cx="30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5580000" y="5086440"/>
            <a:ext cx="309744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5580000" y="5978520"/>
            <a:ext cx="3097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1" descr=""/>
          <p:cNvPicPr/>
          <p:nvPr/>
        </p:nvPicPr>
        <p:blipFill>
          <a:blip r:embed="rId1"/>
          <a:stretch/>
        </p:blipFill>
        <p:spPr>
          <a:xfrm>
            <a:off x="204840" y="814320"/>
            <a:ext cx="8734320" cy="52293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1835280" y="3687840"/>
            <a:ext cx="2376360" cy="447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3"/>
          <a:stretch/>
        </p:blipFill>
        <p:spPr>
          <a:xfrm>
            <a:off x="4730760" y="3716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4"/>
          <a:stretch/>
        </p:blipFill>
        <p:spPr>
          <a:xfrm>
            <a:off x="5651640" y="3687840"/>
            <a:ext cx="237636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5"/>
          <a:stretch/>
        </p:blipFill>
        <p:spPr>
          <a:xfrm>
            <a:off x="1619280" y="4638600"/>
            <a:ext cx="237636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6"/>
          <a:stretch/>
        </p:blipFill>
        <p:spPr>
          <a:xfrm>
            <a:off x="2987640" y="5430960"/>
            <a:ext cx="237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514440" y="1228680"/>
            <a:ext cx="8115120" cy="44006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1403280" y="312732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5176800" y="31701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4"/>
          <a:stretch/>
        </p:blipFill>
        <p:spPr>
          <a:xfrm>
            <a:off x="6516720" y="3141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5"/>
          <a:stretch/>
        </p:blipFill>
        <p:spPr>
          <a:xfrm>
            <a:off x="1547640" y="4076640"/>
            <a:ext cx="309564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6"/>
          <a:stretch/>
        </p:blipFill>
        <p:spPr>
          <a:xfrm>
            <a:off x="2556000" y="4883040"/>
            <a:ext cx="3095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195120" y="824040"/>
            <a:ext cx="8753760" cy="52099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971640" y="2722680"/>
            <a:ext cx="568800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971640" y="3573360"/>
            <a:ext cx="568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116000" y="4437000"/>
            <a:ext cx="568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900000" y="5229360"/>
            <a:ext cx="568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223920" y="1133640"/>
            <a:ext cx="8696160" cy="45907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971640" y="2852640"/>
            <a:ext cx="525600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525636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900000" y="4292640"/>
            <a:ext cx="525636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826920" y="5041800"/>
            <a:ext cx="525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195120" y="898560"/>
            <a:ext cx="8753760" cy="54291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1042920" y="342900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042920" y="414972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1042920" y="4869000"/>
            <a:ext cx="540072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684360" y="5603760"/>
            <a:ext cx="540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243000" y="1090440"/>
            <a:ext cx="8658000" cy="4677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1042920" y="2795760"/>
            <a:ext cx="446580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971640" y="3573360"/>
            <a:ext cx="446544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971640" y="4292640"/>
            <a:ext cx="446544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826920" y="5013360"/>
            <a:ext cx="4465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2" descr=""/>
          <p:cNvPicPr/>
          <p:nvPr/>
        </p:nvPicPr>
        <p:blipFill>
          <a:blip r:embed="rId1"/>
          <a:stretch/>
        </p:blipFill>
        <p:spPr>
          <a:xfrm>
            <a:off x="162000" y="663480"/>
            <a:ext cx="8820000" cy="60962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755640" y="3141720"/>
            <a:ext cx="49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49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684360" y="4581360"/>
            <a:ext cx="49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611280" y="5300640"/>
            <a:ext cx="49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468360" y="6035760"/>
            <a:ext cx="4968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3:5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